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696960" y="738000"/>
            <a:ext cx="534672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e3a6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515154F-2D4A-4221-A621-22C107C113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6C46715-C058-44AB-969A-F21ADC4A5E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F156E1D-A4D2-4D31-BBE9-35D8DD5DC9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95160" y="739800"/>
            <a:ext cx="5345280" cy="37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73FE-6308-480C-A291-0E1EB1CFC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857556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520" y="3983760"/>
            <a:ext cx="857556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00506-7DED-4E66-9B77-7CA36DBAB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468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520" y="398376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4680" y="398376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307B-F736-4C43-92B8-948343EF0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0320" y="191592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9760" y="191592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520" y="398376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0320" y="398376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9760" y="398376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7E3E-C44B-47C9-933E-7B0628599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520" y="1915920"/>
            <a:ext cx="8575560" cy="39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a7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857556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418464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44680" y="1915920"/>
            <a:ext cx="418464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520" y="929880"/>
            <a:ext cx="85755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a7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4680" y="1915920"/>
            <a:ext cx="418464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520" y="398376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520" y="1915920"/>
            <a:ext cx="8575560" cy="39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a7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DB19-8491-4382-82A0-14FA23BB1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418464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468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4680" y="398376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468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520" y="3983760"/>
            <a:ext cx="857556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857556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520" y="3983760"/>
            <a:ext cx="857556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468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520" y="398376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44680" y="398376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50320" y="191592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9760" y="191592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520" y="398376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50320" y="398376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49760" y="3983760"/>
            <a:ext cx="276120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857556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2CC3-DB79-4B01-A896-19BFF69D7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418464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4680" y="1915920"/>
            <a:ext cx="418464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1744-E814-449A-BEEE-DECE27C05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2D04-0594-47C0-B5A9-0B36600A0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520" y="929880"/>
            <a:ext cx="85755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a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872C-B5FD-4D9E-9398-249EF0EB4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4680" y="1915920"/>
            <a:ext cx="418464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520" y="398376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70B1-F552-43A9-A81E-3350240A4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418464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468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4680" y="398376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C386-ABD4-4EBB-8BFB-0D67F8DEC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52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4680" y="1915920"/>
            <a:ext cx="418464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520" y="3983760"/>
            <a:ext cx="8575560" cy="18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B6EC-80EB-44D6-A6AD-D8DF1CA6F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9080"/>
            <a:ext cx="9909000" cy="683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520" y="929880"/>
            <a:ext cx="8575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e3a6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520" y="1915920"/>
            <a:ext cx="857556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e3a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a6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e3a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a6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e3a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a6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37a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a6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737a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a6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a6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a6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e3a6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171840" y="5869080"/>
            <a:ext cx="3041640" cy="43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via donau </a:t>
            </a:r>
            <a:r>
              <a:rPr b="1" lang="de-DE" sz="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 </a:t>
            </a:r>
            <a:fld id="{EB77E675-DEE7-43CB-B5FC-B537FD74C4F5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186600" y="5859360"/>
            <a:ext cx="2995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440" y="286920"/>
            <a:ext cx="93567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e3a6c"/>
                </a:solidFill>
                <a:latin typeface="Arial"/>
              </a:rPr>
              <a:t>Naturversuch Bad Deutsch-Altenburg</a:t>
            </a:r>
            <a:endParaRPr b="1" lang="en-US" sz="3000" spc="-1" strike="noStrike">
              <a:solidFill>
                <a:srgbClr val="1e3a6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582560"/>
            <a:ext cx="9907560" cy="2827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723080" y="2679840"/>
            <a:ext cx="1563840" cy="1176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308640" y="5800680"/>
            <a:ext cx="2733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42200" y="5745240"/>
            <a:ext cx="20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elle: via don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7DC4-C552-42C0-BBE9-0B85DAFE72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440" y="286920"/>
            <a:ext cx="93567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e3a6c"/>
                </a:solidFill>
                <a:latin typeface="Arial"/>
              </a:rPr>
              <a:t>Maßnahmen</a:t>
            </a:r>
            <a:endParaRPr b="1" lang="en-US" sz="3000" spc="-1" strike="noStrike">
              <a:solidFill>
                <a:srgbClr val="1e3a6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7680" y="2162160"/>
            <a:ext cx="9410760" cy="36939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7392960" y="866880"/>
            <a:ext cx="2259000" cy="1767240"/>
            <a:chOff x="7392960" y="866880"/>
            <a:chExt cx="2259000" cy="1767240"/>
          </a:xfrm>
        </p:grpSpPr>
        <p:grpSp>
          <p:nvGrpSpPr>
            <p:cNvPr id="92" name=""/>
            <p:cNvGrpSpPr/>
            <p:nvPr/>
          </p:nvGrpSpPr>
          <p:grpSpPr>
            <a:xfrm>
              <a:off x="7392960" y="866880"/>
              <a:ext cx="2259000" cy="1767240"/>
              <a:chOff x="7392960" y="866880"/>
              <a:chExt cx="2259000" cy="1767240"/>
            </a:xfrm>
          </p:grpSpPr>
          <p:pic>
            <p:nvPicPr>
              <p:cNvPr id="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392960" y="866880"/>
                <a:ext cx="2254320" cy="170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7392960" y="2128680"/>
                <a:ext cx="2259000" cy="50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900" spc="-1" strike="noStrike">
                    <a:solidFill>
                      <a:srgbClr val="000000"/>
                    </a:solidFill>
                    <a:latin typeface="Arial"/>
                  </a:rPr>
                  <a:t>Gewässervernetzung Johler Arm - Schaffung eines permanent durchströmten Nebenarm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9433080" y="905040"/>
              <a:ext cx="1648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019840" y="871560"/>
            <a:ext cx="2263680" cy="1764360"/>
            <a:chOff x="5019840" y="871560"/>
            <a:chExt cx="2263680" cy="1764360"/>
          </a:xfrm>
        </p:grpSpPr>
        <p:grpSp>
          <p:nvGrpSpPr>
            <p:cNvPr id="97" name=""/>
            <p:cNvGrpSpPr/>
            <p:nvPr/>
          </p:nvGrpSpPr>
          <p:grpSpPr>
            <a:xfrm>
              <a:off x="5019840" y="871560"/>
              <a:ext cx="2263680" cy="1764360"/>
              <a:chOff x="5019840" y="871560"/>
              <a:chExt cx="2263680" cy="1764360"/>
            </a:xfrm>
          </p:grpSpPr>
          <p:pic>
            <p:nvPicPr>
              <p:cNvPr id="98" name="" descr=""/>
              <p:cNvPicPr/>
              <p:nvPr/>
            </p:nvPicPr>
            <p:blipFill>
              <a:blip r:embed="rId3"/>
              <a:srcRect l="0" t="0" r="12503" b="0"/>
              <a:stretch/>
            </p:blipFill>
            <p:spPr>
              <a:xfrm>
                <a:off x="5023080" y="871560"/>
                <a:ext cx="2259000" cy="171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5019840" y="2130480"/>
                <a:ext cx="2263680" cy="50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900" spc="-1" strike="noStrike">
                    <a:solidFill>
                      <a:srgbClr val="000000"/>
                    </a:solidFill>
                    <a:latin typeface="Arial"/>
                  </a:rPr>
                  <a:t>Uferrückbau</a:t>
                </a:r>
                <a:br>
                  <a:rPr sz="900"/>
                </a:br>
                <a:r>
                  <a:rPr b="1" lang="de-AT" sz="900" spc="-1" strike="noStrike">
                    <a:solidFill>
                      <a:srgbClr val="000000"/>
                    </a:solidFill>
                    <a:latin typeface="Arial"/>
                  </a:rPr>
                  <a:t>Abtrag der Steinsicherungen  </a:t>
                </a:r>
                <a:br>
                  <a:rPr sz="900"/>
                </a:br>
                <a:r>
                  <a:rPr b="1" lang="de-AT" sz="900" spc="-1" strike="noStrike">
                    <a:solidFill>
                      <a:srgbClr val="000000"/>
                    </a:solidFill>
                    <a:latin typeface="Arial"/>
                  </a:rPr>
                  <a:t>              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7020000" y="912960"/>
              <a:ext cx="1652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649600" y="866880"/>
            <a:ext cx="2278080" cy="1769040"/>
            <a:chOff x="2649600" y="866880"/>
            <a:chExt cx="2278080" cy="1769040"/>
          </a:xfrm>
        </p:grpSpPr>
        <p:grpSp>
          <p:nvGrpSpPr>
            <p:cNvPr id="102" name=""/>
            <p:cNvGrpSpPr/>
            <p:nvPr/>
          </p:nvGrpSpPr>
          <p:grpSpPr>
            <a:xfrm>
              <a:off x="2649600" y="866880"/>
              <a:ext cx="2278080" cy="1769040"/>
              <a:chOff x="2649600" y="866880"/>
              <a:chExt cx="2278080" cy="17690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4"/>
              <a:srcRect l="0" t="0" r="1076" b="0"/>
              <a:stretch/>
            </p:blipFill>
            <p:spPr>
              <a:xfrm>
                <a:off x="2660760" y="866880"/>
                <a:ext cx="2266920" cy="171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2649600" y="2130480"/>
                <a:ext cx="2278080" cy="50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900" spc="-1" strike="noStrike">
                    <a:solidFill>
                      <a:srgbClr val="000000"/>
                    </a:solidFill>
                    <a:latin typeface="Arial"/>
                  </a:rPr>
                  <a:t>Buhnenoptimierung – Neubau bzw. Umbau</a:t>
                </a:r>
                <a:br>
                  <a:rPr sz="900"/>
                </a:br>
                <a:r>
                  <a:rPr b="1" lang="de-AT" sz="900" spc="-1" strike="noStrike">
                    <a:solidFill>
                      <a:srgbClr val="000000"/>
                    </a:solidFill>
                    <a:latin typeface="Arial"/>
                  </a:rPr>
                  <a:t>Absenkung an der Buhnenwurze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681440" y="946080"/>
              <a:ext cx="1652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64960" y="863640"/>
            <a:ext cx="2271960" cy="1772280"/>
            <a:chOff x="264960" y="863640"/>
            <a:chExt cx="2271960" cy="1772280"/>
          </a:xfrm>
        </p:grpSpPr>
        <p:grpSp>
          <p:nvGrpSpPr>
            <p:cNvPr id="107" name=""/>
            <p:cNvGrpSpPr/>
            <p:nvPr/>
          </p:nvGrpSpPr>
          <p:grpSpPr>
            <a:xfrm>
              <a:off x="264960" y="863640"/>
              <a:ext cx="2271960" cy="1772280"/>
              <a:chOff x="264960" y="863640"/>
              <a:chExt cx="2271960" cy="1772280"/>
            </a:xfrm>
          </p:grpSpPr>
          <p:pic>
            <p:nvPicPr>
              <p:cNvPr id="108" name="" descr=""/>
              <p:cNvPicPr/>
              <p:nvPr/>
            </p:nvPicPr>
            <p:blipFill>
              <a:blip r:embed="rId5">
                <a:lum bright="10000"/>
              </a:blip>
              <a:stretch/>
            </p:blipFill>
            <p:spPr>
              <a:xfrm>
                <a:off x="264960" y="863640"/>
                <a:ext cx="2271960" cy="172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268200" y="2130480"/>
                <a:ext cx="2268720" cy="50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AT" sz="900" spc="-1" strike="noStrike">
                    <a:solidFill>
                      <a:srgbClr val="000000"/>
                    </a:solidFill>
                    <a:latin typeface="Arial"/>
                  </a:rPr>
                  <a:t>Sohlanpassung u. Granulometrische Sohlverbesserung – Erprobung der Einbaumethod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300400" y="901800"/>
              <a:ext cx="1648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789280" y="2901960"/>
            <a:ext cx="1648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9400" y="2968560"/>
            <a:ext cx="1652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9120" y="4425840"/>
            <a:ext cx="1648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21000" y="3311640"/>
            <a:ext cx="1652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70400" y="3726000"/>
            <a:ext cx="1652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18320" y="4154400"/>
            <a:ext cx="1652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94120" y="2735280"/>
            <a:ext cx="1652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30960" y="4629240"/>
            <a:ext cx="1652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4520" y="4206960"/>
            <a:ext cx="1652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1852560" y="4195800"/>
            <a:ext cx="3824280" cy="1755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415280" y="5996160"/>
            <a:ext cx="20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elle: via dona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88BA-B733-4A9A-A348-382A997966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52:15Z</dcterms:created>
  <dc:creator>aenspeck</dc:creator>
  <dc:description/>
  <dc:language>en-US</dc:language>
  <cp:lastModifiedBy>WWF</cp:lastModifiedBy>
  <dcterms:modified xsi:type="dcterms:W3CDTF">2011-07-26T13:37:34Z</dcterms:modified>
  <cp:revision>518</cp:revision>
  <dc:subject/>
  <dc:title>Folie 1</dc:title>
</cp:coreProperties>
</file>